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656-C534-4426-9262-E218215F8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B9AB-822D-4692-BD85-AACB42A29C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9E9D-3056-4ADA-914B-931863A609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64CC-6AE3-4D43-B19C-2DA9E6D44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59AB-CEFC-454F-A120-53391CADD3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058-377C-4A86-929B-5448C258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C2C-5121-45E1-A936-F3BBC480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65D-38AE-402E-9EEA-7159F222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798-1506-4579-8780-54279C15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F2D-3014-477C-A491-F044B3D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56A-546D-48E7-9B76-ABD2FAB5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67C-1BBE-4699-A1AD-0144F06D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DFB-BAD5-46D9-B6EF-8143976B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96E-A251-42B9-B270-A610B793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914-B248-4F63-A79F-91AF82DD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C13-2FF6-483E-A655-0D38C16D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1D9-A2F5-44C9-B965-731F0F7A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76CB-5DF4-4212-83BF-7CFE15D0038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Systemic Functional Linguistics in the Round: Imagining FL Education for a Global World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3962520"/>
            <a:ext cx="6324480" cy="2286000"/>
          </a:xfrm>
          <a:prstGeom prst="rect">
            <a:avLst/>
          </a:prstGeom>
          <a:solidFill>
            <a:srgbClr val="3399ff">
              <a:alpha val="50000"/>
            </a:srgbClr>
          </a:solidFill>
          <a:ln w="9360">
            <a:solidFill>
              <a:srgbClr val="f010d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idi Byr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erman Departmen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eorgetown Univer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yrnesh@georgetown.ed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ttp://www1.georgetown.edu/departments/german/faculty/byrn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ttp://www1.georgetown.edu/departments/german/programs/undergraduate/curricul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Line 5"/>
          <p:cNvSpPr/>
          <p:nvPr/>
        </p:nvSpPr>
        <p:spPr>
          <a:xfrm>
            <a:off x="15228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7" descr="100_0294"/>
          <p:cNvPicPr/>
          <p:nvPr/>
        </p:nvPicPr>
        <p:blipFill>
          <a:blip r:embed="rId1"/>
          <a:stretch/>
        </p:blipFill>
        <p:spPr>
          <a:xfrm>
            <a:off x="152280" y="3808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globe3.swirl.jpg"/>
          <p:cNvPicPr/>
          <p:nvPr/>
        </p:nvPicPr>
        <p:blipFill>
          <a:blip r:embed="rId2"/>
          <a:stretch/>
        </p:blipFill>
        <p:spPr>
          <a:xfrm>
            <a:off x="6781680" y="3959280"/>
            <a:ext cx="2362320" cy="228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the-forbidden-city-140-b.jpg"/>
          <p:cNvPicPr/>
          <p:nvPr/>
        </p:nvPicPr>
        <p:blipFill>
          <a:blip r:embed="rId3"/>
          <a:stretch/>
        </p:blipFill>
        <p:spPr>
          <a:xfrm>
            <a:off x="6858000" y="380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7" descr="100_0294"/>
          <p:cNvPicPr/>
          <p:nvPr/>
        </p:nvPicPr>
        <p:blipFill>
          <a:blip r:embed="rId1"/>
          <a:stretch/>
        </p:blipFill>
        <p:spPr>
          <a:xfrm>
            <a:off x="152280" y="152280"/>
            <a:ext cx="1295640" cy="1447920"/>
          </a:xfrm>
          <a:prstGeom prst="rect">
            <a:avLst/>
          </a:prstGeom>
          <a:ln w="0">
            <a:noFill/>
          </a:ln>
        </p:spPr>
      </p:pic>
      <p:sp>
        <p:nvSpPr>
          <p:cNvPr id="143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676520" y="990720"/>
            <a:ext cx="7467480" cy="152388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Trebuchet MS"/>
              </a:rPr>
              <a:t>Toward an educational-institutional needs analysis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(1)</a:t>
            </a:r>
            <a:r>
              <a:rPr b="1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04920" y="2666880"/>
            <a:ext cx="8839080" cy="16002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oreign language learning and mother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ongue learning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1752480" y="4419720"/>
            <a:ext cx="7391520" cy="175248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Learning how to mean with and   through and in a FL lexicogramm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ight Arrow 15"/>
          <p:cNvSpPr/>
          <p:nvPr/>
        </p:nvSpPr>
        <p:spPr>
          <a:xfrm>
            <a:off x="380880" y="4952880"/>
            <a:ext cx="1371600" cy="7128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010d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7" descr="100_0294"/>
          <p:cNvPicPr/>
          <p:nvPr/>
        </p:nvPicPr>
        <p:blipFill>
          <a:blip r:embed="rId1"/>
          <a:stretch/>
        </p:blipFill>
        <p:spPr>
          <a:xfrm>
            <a:off x="152280" y="152280"/>
            <a:ext cx="1295640" cy="1447920"/>
          </a:xfrm>
          <a:prstGeom prst="rect">
            <a:avLst/>
          </a:prstGeom>
          <a:ln w="0">
            <a:noFill/>
          </a:ln>
        </p:spPr>
      </p:pic>
      <p:sp>
        <p:nvSpPr>
          <p:cNvPr id="153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523880" y="685800"/>
            <a:ext cx="7620120" cy="99072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oreign language learning and mother tongue learning (2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1295280" y="2133720"/>
            <a:ext cx="6477120" cy="106668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How can we facilitate the need to mea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1371600" y="3352680"/>
            <a:ext cx="6477120" cy="205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How can we facilitate the potential for experiencing grammar as a meaning-making resour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ight Arrow 16"/>
          <p:cNvSpPr/>
          <p:nvPr/>
        </p:nvSpPr>
        <p:spPr>
          <a:xfrm flipV="1">
            <a:off x="228600" y="5257080"/>
            <a:ext cx="1371600" cy="1600200"/>
          </a:xfrm>
          <a:prstGeom prst="rightArrow">
            <a:avLst>
              <a:gd name="adj1" fmla="val 44667"/>
              <a:gd name="adj2" fmla="val 45556"/>
            </a:avLst>
          </a:pr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7-Point Star 18"/>
          <p:cNvSpPr/>
          <p:nvPr/>
        </p:nvSpPr>
        <p:spPr>
          <a:xfrm>
            <a:off x="304920" y="2209680"/>
            <a:ext cx="914400" cy="99072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7-Point Star 21"/>
          <p:cNvSpPr/>
          <p:nvPr/>
        </p:nvSpPr>
        <p:spPr>
          <a:xfrm>
            <a:off x="304920" y="3733920"/>
            <a:ext cx="990360" cy="99036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1752480" y="5410080"/>
            <a:ext cx="7010640" cy="144792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arness the literate learner’s ability to create an entirely semiotic world of meaning in/through tex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7" descr="100_0294"/>
          <p:cNvPicPr/>
          <p:nvPr/>
        </p:nvPicPr>
        <p:blipFill>
          <a:blip r:embed="rId1"/>
          <a:stretch/>
        </p:blipFill>
        <p:spPr>
          <a:xfrm>
            <a:off x="152280" y="152280"/>
            <a:ext cx="1295640" cy="144792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676520" y="685800"/>
            <a:ext cx="7467480" cy="106668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rebuchet MS"/>
              </a:rPr>
              <a:t>Toward an educational-institutional needs analysis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04920" y="1981080"/>
            <a:ext cx="8839080" cy="441972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oreign language learning as adult/university level language learn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Trebuchet MS"/>
              </a:rPr>
              <a:t>Two tasks</a:t>
            </a:r>
            <a:br>
              <a:rPr sz="3200"/>
            </a:br>
            <a:r>
              <a:rPr b="1" lang="en-US" sz="3200" spc="-1" strike="noStrike" u="sng">
                <a:solidFill>
                  <a:srgbClr val="00b050"/>
                </a:solidFill>
                <a:uFillTx/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rofessional-level/academic language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Beginning level language development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17" descr="100_0294"/>
          <p:cNvPicPr/>
          <p:nvPr/>
        </p:nvPicPr>
        <p:blipFill>
          <a:blip r:embed="rId1"/>
          <a:stretch/>
        </p:blipFill>
        <p:spPr>
          <a:xfrm>
            <a:off x="152280" y="152280"/>
            <a:ext cx="1295640" cy="1447920"/>
          </a:xfrm>
          <a:prstGeom prst="rect">
            <a:avLst/>
          </a:prstGeom>
          <a:ln w="0">
            <a:noFill/>
          </a:ln>
        </p:spPr>
      </p:pic>
      <p:sp>
        <p:nvSpPr>
          <p:cNvPr id="174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1523880" y="685800"/>
            <a:ext cx="7620120" cy="144792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rebuchet MS"/>
              </a:rPr>
              <a:t>Task On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rofessional-level/academic language abilit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-Point Star 9"/>
          <p:cNvSpPr/>
          <p:nvPr/>
        </p:nvSpPr>
        <p:spPr>
          <a:xfrm>
            <a:off x="152280" y="2209680"/>
            <a:ext cx="1067040" cy="121932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1295280" y="2209680"/>
            <a:ext cx="784872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What is the nature of advanced level abiliti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7-Point Star 14"/>
          <p:cNvSpPr/>
          <p:nvPr/>
        </p:nvSpPr>
        <p:spPr>
          <a:xfrm>
            <a:off x="228600" y="3886200"/>
            <a:ext cx="990720" cy="121932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1295280" y="3733920"/>
            <a:ext cx="7848720" cy="152388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How might we foster their development through educational activit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1295280" y="5410080"/>
            <a:ext cx="7848720" cy="144792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What acquisitional preconditions have to exist at a certain time for their successful developmen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7-Point Star 18"/>
          <p:cNvSpPr/>
          <p:nvPr/>
        </p:nvSpPr>
        <p:spPr>
          <a:xfrm>
            <a:off x="228600" y="5410080"/>
            <a:ext cx="990720" cy="121932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7" descr="100_0294"/>
          <p:cNvPicPr/>
          <p:nvPr/>
        </p:nvPicPr>
        <p:blipFill>
          <a:blip r:embed="rId1"/>
          <a:stretch/>
        </p:blipFill>
        <p:spPr>
          <a:xfrm>
            <a:off x="0" y="0"/>
            <a:ext cx="1295280" cy="1447920"/>
          </a:xfrm>
          <a:prstGeom prst="rect">
            <a:avLst/>
          </a:prstGeom>
          <a:ln w="0">
            <a:noFill/>
          </a:ln>
        </p:spPr>
      </p:pic>
      <p:sp>
        <p:nvSpPr>
          <p:cNvPr id="187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523880" y="685800"/>
            <a:ext cx="7620120" cy="76212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rebuchet MS"/>
              </a:rPr>
              <a:t>Task Two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Beginning levels of instructi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1295280" y="1371600"/>
            <a:ext cx="7848720" cy="167652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Are there aspects of 3</a:t>
            </a:r>
            <a:r>
              <a:rPr b="1" lang="en-US" sz="3200" spc="-1" strike="noStrike" baseline="30000">
                <a:solidFill>
                  <a:srgbClr val="00b050"/>
                </a:solidFill>
                <a:latin typeface="Trebuchet MS"/>
              </a:rPr>
              <a:t>rd</a:t>
            </a: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 language acquisition that might facilitate this type of beginning learn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7-Point Star 14"/>
          <p:cNvSpPr/>
          <p:nvPr/>
        </p:nvSpPr>
        <p:spPr>
          <a:xfrm>
            <a:off x="228600" y="3352680"/>
            <a:ext cx="990720" cy="11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1295280" y="3124080"/>
            <a:ext cx="7848720" cy="175284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Is it possible to infuse an entire program and pedagogical approach with those insight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ight Arrow 15"/>
          <p:cNvSpPr/>
          <p:nvPr/>
        </p:nvSpPr>
        <p:spPr>
          <a:xfrm flipV="1">
            <a:off x="228600" y="5181480"/>
            <a:ext cx="1371600" cy="1447920"/>
          </a:xfrm>
          <a:prstGeom prst="rightArrow">
            <a:avLst>
              <a:gd name="adj1" fmla="val 44667"/>
              <a:gd name="adj2" fmla="val 46481"/>
            </a:avLst>
          </a:pr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1752480" y="5105520"/>
            <a:ext cx="7391520" cy="175248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ster, throughout an instructional program, an intellectual-affective-aesthetic pleasure in reflecting on language as a meaning-making system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rethinking ‘motivation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7-Point Star 21"/>
          <p:cNvSpPr/>
          <p:nvPr/>
        </p:nvSpPr>
        <p:spPr>
          <a:xfrm>
            <a:off x="228600" y="1752480"/>
            <a:ext cx="1066680" cy="121932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" descr="100_0294"/>
          <p:cNvPicPr/>
          <p:nvPr/>
        </p:nvPicPr>
        <p:blipFill>
          <a:blip r:embed="rId1"/>
          <a:stretch/>
        </p:blipFill>
        <p:spPr>
          <a:xfrm>
            <a:off x="152280" y="152280"/>
            <a:ext cx="1295640" cy="1447920"/>
          </a:xfrm>
          <a:prstGeom prst="rect">
            <a:avLst/>
          </a:prstGeom>
          <a:ln w="0">
            <a:noFill/>
          </a:ln>
        </p:spPr>
      </p:pic>
      <p:sp>
        <p:nvSpPr>
          <p:cNvPr id="200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523880" y="685800"/>
            <a:ext cx="7620120" cy="129528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he BIG DILEMM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IME IS OF THE ESSENC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1295280" y="2209680"/>
            <a:ext cx="7848720" cy="190512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rebuchet MS"/>
              </a:rPr>
              <a:t>Can FL development be conceptualized in terms of efficiency of acquisition understood as speed of acquisi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7-Point Star 14"/>
          <p:cNvSpPr/>
          <p:nvPr/>
        </p:nvSpPr>
        <p:spPr>
          <a:xfrm>
            <a:off x="304920" y="4419720"/>
            <a:ext cx="990360" cy="11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1295280" y="4267080"/>
            <a:ext cx="7848720" cy="213372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Benchmarking: </a:t>
            </a:r>
            <a:r>
              <a:rPr b="1" lang="en-US" sz="2800" spc="-1" strike="noStrike">
                <a:solidFill>
                  <a:srgbClr val="00b050"/>
                </a:solidFill>
                <a:latin typeface="Trebuchet MS"/>
              </a:rPr>
              <a:t>What can learners reasonably be expected to be able to do IF AND ONLY IF we have provided the best possible programmatic and pedagogical scaffold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7-Point Star 21"/>
          <p:cNvSpPr/>
          <p:nvPr/>
        </p:nvSpPr>
        <p:spPr>
          <a:xfrm>
            <a:off x="228600" y="2514600"/>
            <a:ext cx="1066680" cy="121932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7" descr="100_0294"/>
          <p:cNvPicPr/>
          <p:nvPr/>
        </p:nvPicPr>
        <p:blipFill>
          <a:blip r:embed="rId1"/>
          <a:stretch/>
        </p:blipFill>
        <p:spPr>
          <a:xfrm>
            <a:off x="152280" y="152280"/>
            <a:ext cx="1295640" cy="1447920"/>
          </a:xfrm>
          <a:prstGeom prst="rect">
            <a:avLst/>
          </a:prstGeom>
          <a:ln w="0">
            <a:noFill/>
          </a:ln>
        </p:spPr>
      </p:pic>
      <p:sp>
        <p:nvSpPr>
          <p:cNvPr id="211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523880" y="685800"/>
            <a:ext cx="7620120" cy="83808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Benchm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762120" y="1676520"/>
            <a:ext cx="8001000" cy="50292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t a “best methods”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stantial variation in learning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cknowledges relativity of efficiency and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ffe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voids essentializing a deficitary approach to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dult languag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ables substantive statements about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asonable learning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unteracts the danger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tressingly low outcomes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nreasonably high expectations (MLA repor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24"/>
          <p:cNvSpPr/>
          <p:nvPr/>
        </p:nvSpPr>
        <p:spPr>
          <a:xfrm>
            <a:off x="228600" y="6858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762120" y="838080"/>
            <a:ext cx="8001000" cy="586764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an we devise a principled general proposal about learning development 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at builds on a general model of adult foreign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anguage literacy development  and that is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onnecte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o a general model of the ontogenesis of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nowledge, 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o a general model of language development in the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nse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LEARNING HOW TO MEA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7" descr="100_0294"/>
          <p:cNvPicPr/>
          <p:nvPr/>
        </p:nvPicPr>
        <p:blipFill>
          <a:blip r:embed="rId1"/>
          <a:stretch/>
        </p:blipFill>
        <p:spPr>
          <a:xfrm>
            <a:off x="152280" y="152280"/>
            <a:ext cx="1295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828800" y="685800"/>
            <a:ext cx="7315200" cy="16002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40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reating Educational Goals for FL Cultural Studies Departments SFL (1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04920" y="2286000"/>
            <a:ext cx="8839080" cy="91440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 preface: The challenge to the facu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urved Right Arrow 15"/>
          <p:cNvSpPr/>
          <p:nvPr/>
        </p:nvSpPr>
        <p:spPr>
          <a:xfrm>
            <a:off x="838080" y="4495680"/>
            <a:ext cx="838440" cy="990720"/>
          </a:xfrm>
          <a:custGeom>
            <a:avLst/>
            <a:gdLst>
              <a:gd name="textAreaLeft" fmla="*/ 112320 w 838440"/>
              <a:gd name="textAreaRight" fmla="*/ 726120 w 838440"/>
              <a:gd name="textAreaTop" fmla="*/ 162360 h 990720"/>
              <a:gd name="textAreaBottom" fmla="*/ 6966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78" stAng="-5400000" swAng="-5400000"/>
                <a:lnTo>
                  <a:pt x="0" y="11647"/>
                </a:lnTo>
                <a:arcTo wR="21600" hR="7078" stAng="10800000" swAng="-3105706"/>
                <a:lnTo>
                  <a:pt x="16200" y="21375"/>
                </a:lnTo>
                <a:lnTo>
                  <a:pt x="21600" y="16440"/>
                </a:lnTo>
                <a:lnTo>
                  <a:pt x="16200" y="11054"/>
                </a:lnTo>
                <a:lnTo>
                  <a:pt x="16200" y="13930"/>
                </a:lnTo>
                <a:arcTo wR="21600" hR="7078" stAng="7694294" swAng="2723141"/>
                <a:lnTo>
                  <a:pt x="1156" y="9362"/>
                </a:lnTo>
                <a:arcTo wR="21600" hR="7078" stAng="-10417435" swAng="5017435"/>
                <a:close/>
              </a:path>
              <a:path fill="darkenLess" w="21600" h="21600">
                <a:moveTo>
                  <a:pt x="21600" y="0"/>
                </a:moveTo>
                <a:arcTo wR="21600" hR="7078" stAng="-5400000" swAng="-5400000"/>
                <a:lnTo>
                  <a:pt x="0" y="7078"/>
                </a:lnTo>
                <a:arcTo wR="21600" hR="7078" stAng="10800000" swAng="-382565"/>
                <a:lnTo>
                  <a:pt x="1156" y="9362"/>
                </a:lnTo>
                <a:arcTo wR="21600" hR="7078" stAng="-10417435" swAng="5017435"/>
                <a:close/>
              </a:path>
            </a:pathLst>
          </a:cu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Curved Right Arrow 17"/>
          <p:cNvSpPr/>
          <p:nvPr/>
        </p:nvSpPr>
        <p:spPr>
          <a:xfrm>
            <a:off x="1828800" y="5867280"/>
            <a:ext cx="762120" cy="990720"/>
          </a:xfrm>
          <a:custGeom>
            <a:avLst/>
            <a:gdLst>
              <a:gd name="textAreaLeft" fmla="*/ 101880 w 762120"/>
              <a:gd name="textAreaRight" fmla="*/ 660240 w 762120"/>
              <a:gd name="textAreaTop" fmla="*/ 176040 h 990720"/>
              <a:gd name="textAreaBottom" fmla="*/ 7192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85" stAng="-5400000" swAng="-5400000"/>
                <a:lnTo>
                  <a:pt x="0" y="11839"/>
                </a:lnTo>
                <a:arcTo wR="21600" hR="7685" stAng="10800000" swAng="-3241763"/>
                <a:lnTo>
                  <a:pt x="16200" y="21356"/>
                </a:lnTo>
                <a:lnTo>
                  <a:pt x="21600" y="17446"/>
                </a:lnTo>
                <a:lnTo>
                  <a:pt x="16200" y="13048"/>
                </a:lnTo>
                <a:lnTo>
                  <a:pt x="16200" y="15125"/>
                </a:lnTo>
                <a:arcTo wR="21600" hR="7685" stAng="7558237" swAng="2899554"/>
                <a:lnTo>
                  <a:pt x="804" y="9762"/>
                </a:lnTo>
                <a:arcTo wR="21600" hR="7685" stAng="-10457791" swAng="5057791"/>
                <a:close/>
              </a:path>
              <a:path fill="darkenLess" w="21600" h="21600">
                <a:moveTo>
                  <a:pt x="21600" y="0"/>
                </a:moveTo>
                <a:arcTo wR="21600" hR="7685" stAng="-5400000" swAng="-5400000"/>
                <a:lnTo>
                  <a:pt x="0" y="7685"/>
                </a:lnTo>
                <a:arcTo wR="21600" hR="7685" stAng="10800000" swAng="-342209"/>
                <a:lnTo>
                  <a:pt x="804" y="9762"/>
                </a:lnTo>
                <a:arcTo wR="21600" hR="7685" stAng="-10457791" swAng="5057791"/>
                <a:close/>
              </a:path>
            </a:pathLst>
          </a:cu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914400" y="3352680"/>
            <a:ext cx="8229600" cy="9144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spirit is willing, but the flesh is weak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1828800" y="4419720"/>
            <a:ext cx="7315200" cy="121896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Let’s talk!” The role of a sustained and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ustaining discours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2666880" y="5715000"/>
            <a:ext cx="6477120" cy="11430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audacity of affirming humanistic values and belie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239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828800" y="685800"/>
            <a:ext cx="7315200" cy="16002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1" i="1" lang="en-US" sz="28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reating Educational Goals for FL Cultural Studies Departments SFL (2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1"/>
          <p:cNvSpPr/>
          <p:nvPr/>
        </p:nvSpPr>
        <p:spPr>
          <a:xfrm>
            <a:off x="1828800" y="2286000"/>
            <a:ext cx="5486400" cy="10666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Where w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ounded Rectangle 22"/>
          <p:cNvSpPr/>
          <p:nvPr/>
        </p:nvSpPr>
        <p:spPr>
          <a:xfrm>
            <a:off x="228600" y="3429000"/>
            <a:ext cx="3429000" cy="167652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ift from canonical national literature department to cultural studies depart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ounded Rectangle 23"/>
          <p:cNvSpPr/>
          <p:nvPr/>
        </p:nvSpPr>
        <p:spPr>
          <a:xfrm>
            <a:off x="5486400" y="3429000"/>
            <a:ext cx="3276720" cy="167652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ift from (non-language based) textual interest to ideologically marked theoretical inter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ounded Rectangle 25"/>
          <p:cNvSpPr/>
          <p:nvPr/>
        </p:nvSpPr>
        <p:spPr>
          <a:xfrm>
            <a:off x="304920" y="5715000"/>
            <a:ext cx="8458200" cy="838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ent-indiffer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nguage cour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eft-Right Arrow 27"/>
          <p:cNvSpPr/>
          <p:nvPr/>
        </p:nvSpPr>
        <p:spPr>
          <a:xfrm>
            <a:off x="3962520" y="5867280"/>
            <a:ext cx="1371600" cy="48420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5638680" y="5867280"/>
            <a:ext cx="3048120" cy="53352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nguage-indifferent content cour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1600200" y="4876920"/>
            <a:ext cx="6553080" cy="76176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alien and alienating world of ‘language’ tea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7" descr="100_0294"/>
          <p:cNvPicPr/>
          <p:nvPr/>
        </p:nvPicPr>
        <p:blipFill>
          <a:blip r:embed="rId1"/>
          <a:stretch/>
        </p:blipFill>
        <p:spPr>
          <a:xfrm>
            <a:off x="152280" y="2286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380880" y="609480"/>
            <a:ext cx="8915400" cy="83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A PROPO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NOW: Link </a:t>
            </a:r>
            <a:r>
              <a:rPr b="1" lang="en-US" sz="3600" spc="-1" strike="noStrike">
                <a:solidFill>
                  <a:srgbClr val="f010d0"/>
                </a:solidFill>
                <a:latin typeface="Trebuchet MS"/>
              </a:rPr>
              <a:t>foreign language edu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10d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nd </a:t>
            </a:r>
            <a:r>
              <a:rPr b="1" lang="en-US" sz="3600" spc="-1" strike="noStrike">
                <a:solidFill>
                  <a:srgbClr val="f010d0"/>
                </a:solidFill>
                <a:latin typeface="Trebuchet MS"/>
              </a:rPr>
              <a:t>SF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in order to provide an intellectual frame and framework for a complex, challenging, and much-needed educational effor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" name="Elbow Connector 26"/>
          <p:cNvCxnSpPr/>
          <p:nvPr/>
        </p:nvCxnSpPr>
        <p:spPr>
          <a:xfrm>
            <a:off x="4343400" y="3200400"/>
            <a:ext cx="1372320" cy="1296000"/>
          </a:xfrm>
          <a:prstGeom prst="bentConnector3">
            <a:avLst>
              <a:gd name="adj1" fmla="val 49278"/>
            </a:avLst>
          </a:prstGeom>
          <a:ln w="507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61" name="Rectangle 8"/>
          <p:cNvSpPr/>
          <p:nvPr/>
        </p:nvSpPr>
        <p:spPr>
          <a:xfrm>
            <a:off x="1600200" y="1371600"/>
            <a:ext cx="7543800" cy="106668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Established assump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FL can lead to effective pedagogical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253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1828800" y="685800"/>
            <a:ext cx="7315200" cy="16002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1" i="1" lang="en-US" sz="28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reating Educational Goals for FL Cultural Studies Departments SFL (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21"/>
          <p:cNvSpPr/>
          <p:nvPr/>
        </p:nvSpPr>
        <p:spPr>
          <a:xfrm>
            <a:off x="1295280" y="2286000"/>
            <a:ext cx="6553440" cy="121932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here we need to go: 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‘translingual &amp; transcultural competence’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(MLA Repo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ounded Rectangle 22"/>
          <p:cNvSpPr/>
          <p:nvPr/>
        </p:nvSpPr>
        <p:spPr>
          <a:xfrm>
            <a:off x="304920" y="36576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centrality of tex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ounded Rectangle 23"/>
          <p:cNvSpPr/>
          <p:nvPr/>
        </p:nvSpPr>
        <p:spPr>
          <a:xfrm>
            <a:off x="5486400" y="3733920"/>
            <a:ext cx="3276720" cy="838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facilitative role of gen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ounded Rectangle 25"/>
          <p:cNvSpPr/>
          <p:nvPr/>
        </p:nvSpPr>
        <p:spPr>
          <a:xfrm>
            <a:off x="304920" y="4952880"/>
            <a:ext cx="8458200" cy="160020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These questions focus on </a:t>
            </a:r>
            <a:r>
              <a:rPr b="1" i="1" lang="en-US" sz="2800" spc="-1" strike="noStrike">
                <a:solidFill>
                  <a:srgbClr val="f010d0"/>
                </a:solidFill>
                <a:latin typeface="Trebuchet MS"/>
              </a:rPr>
              <a:t>what texts do 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and </a:t>
            </a:r>
            <a:r>
              <a:rPr b="1" i="1" lang="en-US" sz="2800" spc="-1" strike="noStrike">
                <a:solidFill>
                  <a:srgbClr val="f010d0"/>
                </a:solidFill>
                <a:latin typeface="Trebuchet MS"/>
              </a:rPr>
              <a:t>how texts mean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 rather than </a:t>
            </a:r>
            <a:r>
              <a:rPr b="1" i="1" lang="en-US" sz="2800" spc="-1" strike="noStrike">
                <a:solidFill>
                  <a:srgbClr val="f010d0"/>
                </a:solidFill>
                <a:latin typeface="Trebuchet MS"/>
              </a:rPr>
              <a:t>what texts me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Bazerman &amp; Prio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264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828800" y="685800"/>
            <a:ext cx="73152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40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of Creating Curricula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04920" y="2286000"/>
            <a:ext cx="8839080" cy="13716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he challenge of curricular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Where does the curriculum begin? –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Where does it e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04920" y="3962520"/>
            <a:ext cx="8839080" cy="259056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A curriculum is “an attempt to communicate the essential principles and features of an educational proposal in such a form that it is open to critical scrutiny and capable of effective translation into practic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Stenhouse, 1975: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828800" y="685800"/>
            <a:ext cx="73152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1" i="1" lang="en-US" sz="24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of Creating Curricula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304920" y="2286000"/>
            <a:ext cx="8839080" cy="9144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he two-way orientation of curricular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228600" y="3124080"/>
            <a:ext cx="4114800" cy="34290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pelling out how the meaning-making potential of learners’ available resources bolsters their capacity to learn the FL as a formal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5029200" y="3200400"/>
            <a:ext cx="4114800" cy="327672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vestigating how linguistic resources enable learners to expand their FL meaning-making capacities, particularly in extended tex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283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1828800" y="685800"/>
            <a:ext cx="7315200" cy="106668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1" i="1" lang="en-US" sz="24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of Creating Curricula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04920" y="1981080"/>
            <a:ext cx="8839080" cy="487692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There is a symbiotic relation between learning through language [the content] and developing language itself … it involves actualizing the semiotic systems of knowledge and language into text and continuously reinterpreting the systems on the basis of new experiences in text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lare Painter, 1996: 80-8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04920" y="1828800"/>
            <a:ext cx="8839080" cy="50292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Imagining a curricular progression: Three continu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oral-written continu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speech as spun out, flowing, </a:t>
            </a:r>
            <a:r>
              <a:rPr b="1" lang="en-US" sz="2800" spc="-1" strike="noStrike" u="sng">
                <a:solidFill>
                  <a:srgbClr val="f010d0"/>
                </a:solidFill>
                <a:uFillTx/>
                <a:latin typeface="Trebuchet MS"/>
              </a:rPr>
              <a:t>choreographic, 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oriented toward events … processlike, 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intricate, with meanings related serial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writing as dense, structured, </a:t>
            </a:r>
            <a:r>
              <a:rPr b="1" lang="en-US" sz="2800" spc="-1" strike="noStrike" u="sng">
                <a:solidFill>
                  <a:srgbClr val="f010d0"/>
                </a:solidFill>
                <a:uFillTx/>
                <a:latin typeface="Trebuchet MS"/>
              </a:rPr>
              <a:t>crystalline,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 oriented 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towards things (entities, objectified 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processes) productlike, tight, with meanings 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010d0"/>
                </a:solidFill>
                <a:latin typeface="Trebuchet MS"/>
              </a:rPr>
              <a:t>related as component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. A. K. Halliday, 2002: 3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828800" y="533520"/>
            <a:ext cx="7315200" cy="99036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1" i="1" lang="en-US" sz="24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of Creating Curricula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762120" y="1905120"/>
            <a:ext cx="8839080" cy="61722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Imagining curricular development/progression: Three continua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semiotic continu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ongruent semiosis  -- non-congruent/metaphorical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mio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generic continu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rimary Discourses -- secondary Discourses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(Gee)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e overt dialogicality of conversations –- the covert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ialogicality of tex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- Intratextual dialogic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tertextual dialogicality  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(Bakht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300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828800" y="685800"/>
            <a:ext cx="7315200" cy="99072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1" i="1" lang="en-US" sz="24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of Creating Curricula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Straight Arrow Connector 11"/>
          <p:cNvCxnSpPr/>
          <p:nvPr/>
        </p:nvCxnSpPr>
        <p:spPr>
          <a:xfrm>
            <a:off x="4190040" y="5181480"/>
            <a:ext cx="686520" cy="915120"/>
          </a:xfrm>
          <a:prstGeom prst="straightConnector1">
            <a:avLst/>
          </a:prstGeom>
          <a:ln w="9360">
            <a:solidFill>
              <a:srgbClr val="325d91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304920" y="2133720"/>
            <a:ext cx="8839080" cy="4724280"/>
          </a:xfrm>
          <a:prstGeom prst="rect">
            <a:avLst/>
          </a:prstGeom>
          <a:solidFill>
            <a:srgbClr val="1f497d"/>
          </a:solidFill>
          <a:ln w="7308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A PROPOS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or a language-based approach to foreign language teaching and learning across an extended curricular sequence that will integrate content and language learning toward cross-cultural literacies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at makes it possible to imagine and foster instructed language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309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828800" y="685800"/>
            <a:ext cx="7315200" cy="106668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1" i="1" lang="en-US" sz="24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of Creating Curricula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Straight Arrow Connector 11"/>
          <p:cNvCxnSpPr/>
          <p:nvPr/>
        </p:nvCxnSpPr>
        <p:spPr>
          <a:xfrm>
            <a:off x="3048120" y="5181120"/>
            <a:ext cx="1829520" cy="839160"/>
          </a:xfrm>
          <a:prstGeom prst="straightConnector1">
            <a:avLst/>
          </a:prstGeom>
          <a:ln w="507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04920" y="1828800"/>
            <a:ext cx="8839080" cy="50292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oward a ‘public orientation’ in the scholarship of foreign language teaching an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oward meeting the challenges of applied linguistics 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(Bygate, 200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oward a socially responsible stance in SLA research 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(Ortega, 200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oward  a principled approach in outcomes assessment 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(Norris &amp; Ortega, 2003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318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828800" y="685800"/>
            <a:ext cx="731520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Some Concluding Refl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Straight Arrow Connector 11"/>
          <p:cNvCxnSpPr/>
          <p:nvPr/>
        </p:nvCxnSpPr>
        <p:spPr>
          <a:xfrm>
            <a:off x="4190040" y="5181480"/>
            <a:ext cx="686520" cy="915120"/>
          </a:xfrm>
          <a:prstGeom prst="straightConnector1">
            <a:avLst/>
          </a:prstGeom>
          <a:ln w="9360">
            <a:solidFill>
              <a:srgbClr val="325d91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1219320"/>
            <a:ext cx="8839080" cy="563868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by imagining instructed foreign language development, with the aid of central constructs in SFL, in terms of moving toward a multiliterate capacity for our global and multilingual world 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327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1" name="Straight Arrow Connector 11"/>
          <p:cNvCxnSpPr/>
          <p:nvPr/>
        </p:nvCxnSpPr>
        <p:spPr>
          <a:xfrm>
            <a:off x="4190040" y="5181480"/>
            <a:ext cx="686520" cy="915120"/>
          </a:xfrm>
          <a:prstGeom prst="straightConnector1">
            <a:avLst/>
          </a:prstGeom>
          <a:ln w="9360">
            <a:solidFill>
              <a:srgbClr val="325d91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32" name="Picture 12" descr="globe.hands.jpg"/>
          <p:cNvPicPr/>
          <p:nvPr/>
        </p:nvPicPr>
        <p:blipFill>
          <a:blip r:embed="rId2"/>
          <a:stretch/>
        </p:blipFill>
        <p:spPr>
          <a:xfrm>
            <a:off x="7086600" y="472428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18720" y="31320"/>
            <a:ext cx="8469720" cy="65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multiple literacies: A curriculum renewal project of the German Department at Georgetown University, 1997-2000. (2000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1.georgetown.edu/departments/german/programs/undergraduate/curriculum/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khtin, M. M. (1981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alogic imagination. Four essays by M. M. Bakhtin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. Holquist (ed.) Austin: University of Texas Pres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khtin, M. M. (1986). The problem of speech genres. C. Emerson &amp; M. Holquist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. M. Bakhtin. Speech genres and other late essays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60-102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in, TX: University of Texas Pres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zerman, C., &amp; Prior, P. (2004). Introduction. In C. Bazerman &amp; P. Prior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writing does and how it does it. An introduction to analyzing texts and textual practice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p. 1-10)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hwah, NJ: Lawrence Erlba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gate, M. (2004). Some trends in applied linguistics: Towards a generic view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LA Review, 17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6-22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1998). Constructing curricula in collegiate foreign language departments. H. Byrnes (ed.)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ing foreign and second languages: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pectives in research and scholarship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262-295). New York: Modern Language Associatio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2001). Reconsidering graduate students' education as teachers: It takes a department!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 Language Journal, 85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512-530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2002a). The role of task and task-based assessment in a content-oriented collegiate FL curriculum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esting, 19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419-437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2002b). The cultural turn in foreign language departments. Challenge and opportunity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 2002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14-129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2002c). Toward academic-level foreign language abilities: Reconsidering foundational assumptions, expanding pedagogical options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L. Leaver &amp; B. Shekhtman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professional-level language proficiency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34-58). Cambridge: Cambridge University Pres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2006a). A semiotic perspective on culture and foreign language teaching: Implications for collegiate materials development. V. Galloway &amp; B. Cothran (eds.)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nd culture out of bounds: Discipline-blurred perspectives on the foreign language classroom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37-66). Boston, MA: Heinle Thomson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ed.) (2006b). Perspectives: Interrogating communicative competence as a framework for collegiate foreign language study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 Language Journal, 90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244-266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2006c). What kind of resource is language and why does it matter for advanced language learning? An introduction. H. Byrnes (ed.)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language learning: The contribution of Halliday and Vygotsky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p. 1-28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2007). Language acquisition and language learning. D. Nicholls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scholarship in modern languages and literatures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3</a:t>
            </a:r>
            <a:r>
              <a:rPr b="0" lang="en-US" sz="9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d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d.) (pp. 48-69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York: Modern Language Associatio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2008). Assessing content and language. E. Shohamy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esting and assessment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ol. 7, pp. 37-52). Berlin: Springer-Kluwer Academic Publisher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2009). Emergent L2 German writing ability in a curricular context: A longitudinal study of grammatical metaphor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guistics and Education, 20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50-66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 (in press). Construing writing as meaning-making as language and content learning: Considerations from a collegiate FL perspective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. Manc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ó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ing to write and writing to learn in instructed second language acquisition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Amsterdam/Philadelphia: John Benjamins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, &amp; Maxim, H. H. (2004). Introduction: Creating sites for collegiate advanced foreign language learning. H. Byrnes &amp; H. H. Maxim (eds.)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language learning: A challenge to college programs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p. vii-xv). Boston: Heinle Thomso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, Crane, C., Maxim, H. H., &amp; Sprang, K. A. (2006). Taking text to task: Issues and choices in curriculum construction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L: International Journal of Applied Linguistics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2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85-110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rnes, H., Maxim, H. H., &amp; Norris, J. M. (2010). Realizing advanced L2 writing development in collegiate FL education: Curricular design, pedagogy, assessment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 Language Journal, 94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Monograph Issue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ie, F. (1989). Language development in education. In R. Hasan &amp; J. R. Martin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development: Learning language, learning culture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152-198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wood, NJ: Ablex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in, C. (2006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discourse: The language of time, cause and evaluation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ne, C. (2006). Modelling a genre-based foreign language curriculum: Staging advanced L2 learning. In H. Byrnes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language learning: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ntribution of Halliday and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gotsky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227-245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ne, C., Liamkina, O., &amp; Ryshina-Pankova. (2004). Fostering advanced level language abilities in foreign language graduate programs: Applications of genre theor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Byrnes &amp; H. H. Maxim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oreign language learning: A challenge to college programs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150-177). Boston: Heinle-Thomson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hty, C. J., &amp; Long, M. H. (eds.). (2003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andbook of second language acquisition 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lden, MA: Blackwell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64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228600" y="609480"/>
            <a:ext cx="891540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nvisioned Educational Goal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Model </a:t>
            </a: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program vision/goals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or bo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language and content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Develop </a:t>
            </a: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curricula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for specific educa-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ional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id </a:t>
            </a: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materials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Guide </a:t>
            </a: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assessment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interests, instruments,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interpret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Inform approaches to </a:t>
            </a: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teacher edu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C:\Documents and Settings\byrnesh\Local Settings\Temporary Internet Files\Content.IE5\0KM2951H\MCj02935180000[1].wmf"/>
          <p:cNvPicPr/>
          <p:nvPr/>
        </p:nvPicPr>
        <p:blipFill>
          <a:blip r:embed="rId2"/>
          <a:stretch/>
        </p:blipFill>
        <p:spPr>
          <a:xfrm flipH="1">
            <a:off x="7086600" y="12193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7560" y="95400"/>
            <a:ext cx="8546040" cy="57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e, J. P. (2002). Literacies, identities, and discourses. M. J. Schleppegrell &amp; M. Cecilia Colombi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advanced literacy in first and second languages: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ing with power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159-175). Mahwah, NJ: Lawrence Erlba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1973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rations in the functions of language. Explorations in language study.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: Edward Arnol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1975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ing how to mean: Explorations in the development of language.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: Edward Arnol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1993). Towards a language-based theory of learning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guistics and Education, 5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, 93-116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1994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ntroduction to functional grammar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ondon: Edward Arnold. (2</a:t>
            </a:r>
            <a:r>
              <a:rPr b="0" lang="en-US" sz="9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d.)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1996). On grammar and grammatics. R. Hasan, C. Cloran, &amp; D. G. Butt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descriptions: Theory in practice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1-38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sterdam/Philadelphia: John Benjamin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1999). Grammar and the construction of educational knowledge. R. Berry, B. Asker, K. Hyland, &amp; M. Lam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nalysis, description and pedagog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p. 70-87). Hong Kong: Language Centre, The Hong Kong University of Science &amp; Technology and Department of English, Lingnan Universit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2002). Spoken and written modes of meaning. J. J. Webster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grammar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p. 323-351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2004a). On grammar as the driving force from primary to higher-order consciousness. G. Williams &amp; A. Lukin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velopment of language: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perspectives on species and individuals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p. 15-44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2004b). Three aspects of children's language development: Learning language, learning through language, learning about language (1980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J. Webster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nguage of early childhood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Vol. 4, pp. 308-326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2007a). Is learning a second language like learning a first language all over again? (1978). J. J. Webster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nd education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Vol. 9, pp. 174-193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2007b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nd education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. J. Webster (ed.).(Vol. 9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2007c). A language development approach to education (1994). J. J. Webster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nd education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Vol. 9, pp. 368-382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 (2007d). On the concept of "educational linguistics" (1990). J. J. Webster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nd education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Vol. 9, pp. 354-367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iday, M. A. K., &amp; Matthiessen, C. M. I. M. (1999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ing experience through meaning: A language-based approach to cognition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ndon/New York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an, R., &amp; Martin, J. R. (eds.). (1989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development: Learning language, learning culture .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wood, NJ: Ablex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nes, J., Gollin, S., Drury, H., &amp; Economou, D. (1989). Systemic-functional linguistics and its application to the TESOL curriculum. R. Hasan &amp; J. R. Martin (eds.)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development: learning language, learning culture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p. 257-328). Norwood, NJ: Ablex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ken-Horarik, M. (1996). Literacy and learning across the curriculum: Towards a model of register for secondary school teachers. R. Hasan &amp; G. Williams (eds.)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cy in society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232-278). London: Longman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tin, J. R. (1993). Genre and literacy -- modeling context in educational linguistics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Review of Applied Linguistics, 13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41-172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tin, J. R. (1999). Mentoring semogenesis: 'genre-based' literacy pedagogy. F. Christie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dagogy and the shaping of consciousness: Linguistic and social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p. 123-155). London: Cassell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tin, J. R. (2002). Writing history: Construing time and value in discourses of the past. M. J. Schleppegrell &amp; M. C. Colombi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advanced literac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first and second languages: Meaning with power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87-118). Mahwah, NJ: Lawrence Erlba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tin, J. R. (2009). Genre and language learning: A social semiotic perspective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guistics and Education, 20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0-21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tin, J. R., &amp; Rose, D. (2003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with discourse: Meaning beyond the clause.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tin, J. R., &amp; Rose, D. (2008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re relations: Mapping culture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ondon: Equinox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237240"/>
            <a:ext cx="84582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thiessen, C. M. I. M. (1993).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in the round: Diversity in a unified theory of register analysis. M. Ghadessy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analysis: Theory and practice (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. 221-292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: Pinter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thiessen, C. M. I. M. (2006).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ing for advanced foreign language capacities: exploring the meaning-making resources of languages systemic-functionall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Byrnes (ed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language learning: The contribution of Halliday and Vygotsky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31-57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thiessen, C., Slade, D., &amp; Macken, M. (1992). Language in context: A new model for evaluating student writing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guistics and Education, 4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73-193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A Ad Hoc Committee on Foreign Languages. (2007). Foreign languages and higher education: New structures for a changed world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 2007: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34-245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ris, J. M. (2006). Assessing advanced foreign language learning and learners: From measurement constructs to educational uses. H. Byrnes, H. Weger-Guntharp, &amp; K. Sprang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ing for advanced foreign language capacities: Constructs, curriculum, instruction, assessment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167-187). Washington, DC: Georgetown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Pres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ris, J. M., &amp; Ortega, L. (2000). Effectiveness of L2 instruction: A research synthesis and quantitative meta-analysis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Learning, 50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417-528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ris, J. M., &amp; Ortega, L. (2003). Defining and measuring SLA. In C. Doughty &amp; M. H. Long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book of second language acquisition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716-761). London: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ckwell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ris, J. M., &amp; Pfeiffer, P. C. (2003). Exploring the use and usefulness of ACTFL oral proficiency ratings and standards in college foreign language departments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eign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nnals, 36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572-581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ega, L. (2005). For what and for whom is our research? The ethical as transformative lens in instructed SLA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 Language Journal, 89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427-443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er, C. (1996). The development of language as a resource for thinking: a linguistic view of learning. R. Hasan &amp; G. Williams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cy and society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50-85)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: Longman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eiffer, P. C., &amp; Byrnes, H. (2009). Curriculum, learning, and the identity of majors: A case study of program outcomes evaluation. J. M. Norris, C. Sinicrope, &amp; Y. Watanabe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ward useful program evaluation in college foreign language education.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nolulu, HI: National Foreign Language Resource Center Monograph series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ner, S., &amp; Weigert, A. (2006). From sports to the EU economy: Integrating curricula through genre-based content courses. H. Byrnes &amp; H. H. Maxim (eds.)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language learning: A challenge to college programs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p. 136-151). Boston: Heinle Thomso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hery, J. (1989). Learning about language. R. Hasan &amp; J. R. Martin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development: Learning language, learning culture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199-256). Norwood, NJ: Ablex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hery, J. (1996). Making changes: developing an educational linguistics. R. Hasan &amp; G. Williams (eds.),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cy in society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86-123). London: Longman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shina-Pankova, M. (in press). Towards mastering the discourses of reasoning: Use of grammatical metaphor at advanced levels of FL acquisition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 Language Journal</a:t>
            </a:r>
            <a:r>
              <a:rPr b="1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leppegrell, M. J. (2004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nguage of schooling: A functional linguistics perspective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hwah, NJ: Lawrence Erlba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nhouse, L. (1975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ntroduction to curriculum research and development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ondon: Heinemann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uya, K. (2006). Grammar as a resource for the construction of language logic for advanced language learning in Japanese. H. Byrnes (ed.)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language learning: The contribution of Halliday and Vygotsky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109-133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tsch, J. V. (2006). Generalized collective dialogue and advanced foreign language capacities. H. Byrnes (ed.).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language learning: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ntribution of Halliday and Vygotsky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p. 58-71). London: Continuu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338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Straight Arrow Connector 11"/>
          <p:cNvCxnSpPr/>
          <p:nvPr/>
        </p:nvCxnSpPr>
        <p:spPr>
          <a:xfrm>
            <a:off x="4190040" y="5181480"/>
            <a:ext cx="686520" cy="915120"/>
          </a:xfrm>
          <a:prstGeom prst="straightConnector1">
            <a:avLst/>
          </a:prstGeom>
          <a:ln w="9360">
            <a:solidFill>
              <a:srgbClr val="325d91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Rectangle 14"/>
          <p:cNvSpPr/>
          <p:nvPr/>
        </p:nvSpPr>
        <p:spPr>
          <a:xfrm>
            <a:off x="1676520" y="1219320"/>
            <a:ext cx="6629400" cy="510516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THANK YOU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u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uf Wiedersehen at A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in Atlanta, Georgi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March 6 – 9, 20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www.aaal.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828800" y="685800"/>
            <a:ext cx="73152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4000" spc="-1" strike="noStrike">
                <a:solidFill>
                  <a:srgbClr val="00b050"/>
                </a:solidFill>
                <a:latin typeface="Trebuchet MS"/>
              </a:rPr>
              <a:t>How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Linking FL Education and SF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04920" y="2286000"/>
            <a:ext cx="8839080" cy="13716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cknowledge the central position of the educational site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 terms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Curved Right Arrow 15"/>
          <p:cNvSpPr/>
          <p:nvPr/>
        </p:nvSpPr>
        <p:spPr>
          <a:xfrm>
            <a:off x="1371600" y="4343400"/>
            <a:ext cx="457200" cy="1066680"/>
          </a:xfrm>
          <a:custGeom>
            <a:avLst/>
            <a:gdLst>
              <a:gd name="textAreaLeft" fmla="*/ 61200 w 457200"/>
              <a:gd name="textAreaRight" fmla="*/ 396000 w 457200"/>
              <a:gd name="textAreaTop" fmla="*/ 223560 h 1066680"/>
              <a:gd name="textAreaBottom" fmla="*/ 7858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64" stAng="-5400000" swAng="-5400000"/>
                <a:lnTo>
                  <a:pt x="0" y="11379"/>
                </a:lnTo>
                <a:arcTo wR="21600" hR="9064" stAng="10800000" swAng="-3503756"/>
                <a:lnTo>
                  <a:pt x="16200" y="21312"/>
                </a:lnTo>
                <a:lnTo>
                  <a:pt x="21600" y="19286"/>
                </a:lnTo>
                <a:lnTo>
                  <a:pt x="16200" y="16683"/>
                </a:lnTo>
                <a:lnTo>
                  <a:pt x="16200" y="17840"/>
                </a:lnTo>
                <a:arcTo wR="21600" hR="9064" stAng="7296244" swAng="3318194"/>
                <a:lnTo>
                  <a:pt x="177" y="10221"/>
                </a:lnTo>
                <a:arcTo wR="21600" hR="9064" stAng="-10614438" swAng="5214438"/>
                <a:close/>
              </a:path>
              <a:path fill="darkenLess" w="21600" h="21600">
                <a:moveTo>
                  <a:pt x="21600" y="0"/>
                </a:moveTo>
                <a:arcTo wR="21600" hR="9064" stAng="-5400000" swAng="-5400000"/>
                <a:lnTo>
                  <a:pt x="0" y="9064"/>
                </a:lnTo>
                <a:arcTo wR="21600" hR="9064" stAng="10800000" swAng="-185562"/>
                <a:lnTo>
                  <a:pt x="177" y="10221"/>
                </a:lnTo>
                <a:arcTo wR="21600" hR="9064" stAng="-10614438" swAng="5214438"/>
                <a:close/>
              </a:path>
            </a:pathLst>
          </a:cu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urved Right Arrow 17"/>
          <p:cNvSpPr/>
          <p:nvPr/>
        </p:nvSpPr>
        <p:spPr>
          <a:xfrm>
            <a:off x="2057400" y="525780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204840 h 990720"/>
              <a:gd name="textAreaBottom" fmla="*/ 7290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31" stAng="-5400000" swAng="-5400000"/>
                <a:lnTo>
                  <a:pt x="0" y="11424"/>
                </a:lnTo>
                <a:arcTo wR="21600" hR="8931" stAng="10800000" swAng="-3480914"/>
                <a:lnTo>
                  <a:pt x="16200" y="21316"/>
                </a:lnTo>
                <a:lnTo>
                  <a:pt x="21600" y="19108"/>
                </a:lnTo>
                <a:lnTo>
                  <a:pt x="16200" y="16331"/>
                </a:lnTo>
                <a:lnTo>
                  <a:pt x="16200" y="17577"/>
                </a:lnTo>
                <a:arcTo wR="21600" hR="8931" stAng="7319086" swAng="3280792"/>
                <a:lnTo>
                  <a:pt x="211" y="10177"/>
                </a:lnTo>
                <a:arcTo wR="21600" hR="8931" stAng="-10599879" swAng="5199879"/>
                <a:close/>
              </a:path>
              <a:path fill="darkenLess" w="21600" h="21600">
                <a:moveTo>
                  <a:pt x="21600" y="0"/>
                </a:moveTo>
                <a:arcTo wR="21600" hR="8931" stAng="-5400000" swAng="-5400000"/>
                <a:lnTo>
                  <a:pt x="0" y="8931"/>
                </a:lnTo>
                <a:arcTo wR="21600" hR="8931" stAng="10800000" swAng="-200121"/>
                <a:lnTo>
                  <a:pt x="211" y="10177"/>
                </a:lnTo>
                <a:arcTo wR="21600" hR="8931" stAng="-10599879" swAng="5199879"/>
                <a:close/>
              </a:path>
            </a:pathLst>
          </a:cu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914400" y="3581280"/>
            <a:ext cx="69343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ducational values, beliefs,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2209680" y="4343400"/>
            <a:ext cx="510552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Public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2743200" y="5257800"/>
            <a:ext cx="64008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ystemic affordances and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828800" y="533520"/>
            <a:ext cx="5486400" cy="152388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010d0"/>
                </a:solidFill>
                <a:latin typeface="Trebuchet MS"/>
              </a:rPr>
              <a:t>The Centrality of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04920" y="2286000"/>
            <a:ext cx="8839080" cy="426708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How can, should, must we imag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he nature of instructed multi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language development by adults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light of pressing educational man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or college FL learning, an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How can, should, must SFL guide and inform that kind of imagin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3" descr="soaring-eagle.jpg"/>
          <p:cNvPicPr/>
          <p:nvPr/>
        </p:nvPicPr>
        <p:blipFill>
          <a:blip r:embed="rId2"/>
          <a:stretch/>
        </p:blipFill>
        <p:spPr>
          <a:xfrm>
            <a:off x="7729560" y="4267080"/>
            <a:ext cx="141444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eagle hatchlings.jpg"/>
          <p:cNvPicPr/>
          <p:nvPr/>
        </p:nvPicPr>
        <p:blipFill>
          <a:blip r:embed="rId3"/>
          <a:stretch/>
        </p:blipFill>
        <p:spPr>
          <a:xfrm>
            <a:off x="7696080" y="2590920"/>
            <a:ext cx="1447920" cy="153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Bald_eagle_nesting.jpg"/>
          <p:cNvPicPr/>
          <p:nvPr/>
        </p:nvPicPr>
        <p:blipFill>
          <a:blip r:embed="rId4"/>
          <a:stretch/>
        </p:blipFill>
        <p:spPr>
          <a:xfrm>
            <a:off x="7696080" y="5335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" y="1828800"/>
            <a:ext cx="8381880" cy="213372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Model </a:t>
            </a: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program vision/goals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or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language and content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Develop </a:t>
            </a:r>
            <a:r>
              <a:rPr b="1" lang="en-US" sz="3200" spc="-1" strike="noStrike">
                <a:solidFill>
                  <a:srgbClr val="f010d0"/>
                </a:solidFill>
                <a:latin typeface="Trebuchet MS"/>
              </a:rPr>
              <a:t>curricula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for specific educa-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ional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09480" y="4572000"/>
            <a:ext cx="8229600" cy="137160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28600" y="304920"/>
            <a:ext cx="89154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nvisioned Educational 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838080" y="4800600"/>
            <a:ext cx="7925040" cy="137160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uide assessment interests, instruments, interpre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Aid materials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Inform approaches to teacher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104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828800" y="685800"/>
            <a:ext cx="54864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Trebuchet MS"/>
              </a:rPr>
              <a:t>Global Positioning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ollegiate FL Edu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04920" y="2895480"/>
            <a:ext cx="8839080" cy="144792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osition FL education in the world of different languages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English and LOT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4" descr="globe.jpg"/>
          <p:cNvPicPr/>
          <p:nvPr/>
        </p:nvPicPr>
        <p:blipFill>
          <a:blip r:embed="rId2"/>
          <a:stretch/>
        </p:blipFill>
        <p:spPr>
          <a:xfrm>
            <a:off x="7543800" y="533520"/>
            <a:ext cx="1600200" cy="1447560"/>
          </a:xfrm>
          <a:prstGeom prst="rect">
            <a:avLst/>
          </a:prstGeom>
          <a:ln w="0">
            <a:noFill/>
          </a:ln>
        </p:spPr>
      </p:pic>
      <p:sp>
        <p:nvSpPr>
          <p:cNvPr id="111" name="Right Arrow 16"/>
          <p:cNvSpPr/>
          <p:nvPr/>
        </p:nvSpPr>
        <p:spPr>
          <a:xfrm>
            <a:off x="380880" y="5334120"/>
            <a:ext cx="83844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1295280" y="4800600"/>
            <a:ext cx="7315200" cy="167652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rebuchet MS"/>
              </a:rPr>
              <a:t>How can an educational system negotiate multiple language learning demands/interests for advanced-level abilities, and not needlessly put languages into competition with one anothe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828800" y="609480"/>
            <a:ext cx="563868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Trebuchet MS"/>
              </a:rPr>
              <a:t>Global Positioning 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(2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04920" y="2133720"/>
            <a:ext cx="8839080" cy="99036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Recognize the inherent limitations of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4" descr="globe.jpg"/>
          <p:cNvPicPr/>
          <p:nvPr/>
        </p:nvPicPr>
        <p:blipFill>
          <a:blip r:embed="rId2"/>
          <a:stretch/>
        </p:blipFill>
        <p:spPr>
          <a:xfrm>
            <a:off x="7543800" y="45720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1600200" y="3276720"/>
            <a:ext cx="7010280" cy="91440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ommunicative language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ight Arrow 12"/>
          <p:cNvSpPr/>
          <p:nvPr/>
        </p:nvSpPr>
        <p:spPr>
          <a:xfrm>
            <a:off x="762120" y="4495680"/>
            <a:ext cx="838080" cy="762120"/>
          </a:xfrm>
          <a:prstGeom prst="rightArrow">
            <a:avLst>
              <a:gd name="adj1" fmla="val 50000"/>
              <a:gd name="adj2" fmla="val 52636"/>
            </a:avLst>
          </a:pr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1600200" y="4343400"/>
            <a:ext cx="7010280" cy="114300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Psycholinguistic, form-focused, processing-oriented SLA resear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ight Arrow 21"/>
          <p:cNvSpPr/>
          <p:nvPr/>
        </p:nvSpPr>
        <p:spPr>
          <a:xfrm>
            <a:off x="762120" y="3352680"/>
            <a:ext cx="761760" cy="838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1066680" y="5562720"/>
            <a:ext cx="8077320" cy="129528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rebuchet MS"/>
              </a:rPr>
              <a:t>What kind of theoretically motivated talking about language teaching and learning might dislodge these two reigning discourses of educational practi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7-Point Star 25"/>
          <p:cNvSpPr/>
          <p:nvPr/>
        </p:nvSpPr>
        <p:spPr>
          <a:xfrm>
            <a:off x="228600" y="5791320"/>
            <a:ext cx="762120" cy="685800"/>
          </a:xfrm>
          <a:prstGeom prst="pie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5"/>
          <p:cNvSpPr/>
          <p:nvPr/>
        </p:nvSpPr>
        <p:spPr>
          <a:xfrm>
            <a:off x="106200" y="1905120"/>
            <a:ext cx="4608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7" descr="100_0294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10"/>
          <p:cNvSpPr/>
          <p:nvPr/>
        </p:nvSpPr>
        <p:spPr>
          <a:xfrm>
            <a:off x="1752480" y="228600"/>
            <a:ext cx="7391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traight Connector 13"/>
          <p:cNvSpPr/>
          <p:nvPr/>
        </p:nvSpPr>
        <p:spPr>
          <a:xfrm>
            <a:off x="2286000" y="380880"/>
            <a:ext cx="6858000" cy="1800"/>
          </a:xfrm>
          <a:prstGeom prst="line">
            <a:avLst/>
          </a:prstGeom>
          <a:ln w="50760">
            <a:solidFill>
              <a:srgbClr val="f01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9"/>
          <p:cNvSpPr/>
          <p:nvPr/>
        </p:nvSpPr>
        <p:spPr>
          <a:xfrm>
            <a:off x="2743200" y="533520"/>
            <a:ext cx="6248520" cy="1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828800" y="685800"/>
            <a:ext cx="563868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Trebuchet MS"/>
              </a:rPr>
              <a:t>Global Positioning 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(3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04920" y="2133720"/>
            <a:ext cx="8839080" cy="990360"/>
          </a:xfrm>
          <a:prstGeom prst="rect">
            <a:avLst/>
          </a:prstGeom>
          <a:solidFill>
            <a:srgbClr val="1f497d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Linking FL teaching and learning and SFL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4" descr="globe.jpg"/>
          <p:cNvPicPr/>
          <p:nvPr/>
        </p:nvPicPr>
        <p:blipFill>
          <a:blip r:embed="rId2"/>
          <a:stretch/>
        </p:blipFill>
        <p:spPr>
          <a:xfrm>
            <a:off x="7543800" y="533520"/>
            <a:ext cx="1600200" cy="1447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8"/>
          <p:cNvSpPr/>
          <p:nvPr/>
        </p:nvSpPr>
        <p:spPr>
          <a:xfrm>
            <a:off x="1600200" y="3276720"/>
            <a:ext cx="7010280" cy="129528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A situated educational nee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A translation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1600200" y="4800600"/>
            <a:ext cx="7010280" cy="1676520"/>
          </a:xfrm>
          <a:prstGeom prst="rect">
            <a:avLst/>
          </a:prstGeom>
          <a:solidFill>
            <a:srgbClr val="366092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urther clarification of existing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onceptual appar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xtension/development of SF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ight Arrow 21"/>
          <p:cNvSpPr/>
          <p:nvPr/>
        </p:nvSpPr>
        <p:spPr>
          <a:xfrm>
            <a:off x="762120" y="3581280"/>
            <a:ext cx="761760" cy="838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ight Arrow 14"/>
          <p:cNvSpPr/>
          <p:nvPr/>
        </p:nvSpPr>
        <p:spPr>
          <a:xfrm>
            <a:off x="762120" y="5181480"/>
            <a:ext cx="761760" cy="838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254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21:37:50Z</dcterms:created>
  <dc:creator>UIS</dc:creator>
  <dc:description/>
  <dc:language>en-US</dc:language>
  <cp:lastModifiedBy>UIS</cp:lastModifiedBy>
  <dcterms:modified xsi:type="dcterms:W3CDTF">2009-07-28T22:34:17Z</dcterms:modified>
  <cp:revision>111</cp:revision>
  <dc:subject/>
  <dc:title>Slide 1</dc:title>
</cp:coreProperties>
</file>